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2.pct" ContentType="image/x-pict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CC1-969A-4FAA-BC36-A4386D590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/Nurse: http://www.doctortoto.com/images/doctortoto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: http://www.languageinindia.com/april2003/tele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patient back som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them to inside the hospital and outside the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weeds pic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by linking them to staff or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or ceiling or curtain or built into th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it to be more engaging, have more services, more potential is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die (color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ak, flat panel, light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several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best prot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: On/Off; Di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/Radio Controls: Volume, Channel, Station, Closed Captioning,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thing Sounds: On/Off, Volume, Sound Selection (Rain, Waterfall, River, Ocean, Cri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Proj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need to decide how much information/how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in doctor’s view [link!!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CAF-F0A6-4E96-97E7-85BFF659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CEA-34EB-41EB-B1E4-AA42D0B1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181-D44C-405C-A14E-A4425DA7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E64-E20C-44C8-8609-B53FD610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21B2-2F9F-4650-983F-C371EC77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970-D159-47C1-9589-6E28E913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053A-9E37-40B2-8463-BDBD1D09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6372-8A1C-47EB-A6F4-1BDBAA0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BC8E-2C73-4174-9706-EE5AAFAF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D4B-49FB-435D-AC4A-3B1219C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184E-25EC-4D09-8055-14B390B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B3E-1A8B-467C-84CB-7F26B53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CF6-8C99-4428-9F84-3D3ED1B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13A5-4F1C-4C6C-9459-2520178C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0B6F-CD96-4D59-AED5-CD323F20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2848-AD8B-43B3-9E58-F2093289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E175-1EDA-4C5B-BF76-01CA80B6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859-4E6F-4F22-B657-2D4ED10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FA3-B642-47EC-9532-249FC9BC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80F-BDE6-490E-A62D-39F246D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519-C2D8-480B-803C-AB80A119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798-6257-4055-93E1-84F24D78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0FA-7AE9-48B4-B74E-BE7131A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FF7-3E47-46C5-9CCE-75A6EF07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FEB-B2FB-4FCF-B1B8-9C10CFC09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C308-6079-4EF9-BEF3-6E3942B27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roving Patient Experience in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D Treatment Roo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509920"/>
            <a:ext cx="4647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Team M</a:t>
            </a:r>
            <a:r>
              <a:rPr b="0" i="1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Sushama B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Caroline Castell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Allyn Rip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October 28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1219320"/>
            <a:ext cx="6933960" cy="4724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5440" y="1752480"/>
            <a:ext cx="5386320" cy="361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light weeds"/>
          <p:cNvPicPr/>
          <p:nvPr/>
        </p:nvPicPr>
        <p:blipFill>
          <a:blip r:embed="rId2"/>
          <a:srcRect l="0" t="0" r="0" b="23477"/>
          <a:stretch/>
        </p:blipFill>
        <p:spPr>
          <a:xfrm>
            <a:off x="5651640" y="4265640"/>
            <a:ext cx="1449360" cy="12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909800" y="2119320"/>
            <a:ext cx="1095480" cy="816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93640" y="18558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9200" y="214632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6040" y="38098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81080" y="3505320"/>
            <a:ext cx="1508400" cy="1522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82640" y="32004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51480" y="50436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rcRect l="0" t="13895" r="39859" b="19988"/>
          <a:stretch/>
        </p:blipFill>
        <p:spPr>
          <a:xfrm rot="19376400">
            <a:off x="4932360" y="4749480"/>
            <a:ext cx="897120" cy="71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515-F081-4BCA-8089-F7055F62D4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activ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ynamic and experient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sponds to external stimuli, movement or patient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tes sounds, col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Brings nature indo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wers patient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itive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light weeds"/>
          <p:cNvPicPr/>
          <p:nvPr/>
        </p:nvPicPr>
        <p:blipFill>
          <a:blip r:embed="rId1"/>
          <a:srcRect l="0" t="0" r="0" b="23205"/>
          <a:stretch/>
        </p:blipFill>
        <p:spPr>
          <a:xfrm>
            <a:off x="5105520" y="1239840"/>
            <a:ext cx="253368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75280" y="371304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2867040" cy="24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C3B-5A41-4B9D-8642-5E1381F89A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the next several week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search materials fo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ok at designs used by previou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ign device, software, an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mplemen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D64-F920-4A4D-A5AC-600F49A73E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F95-EC13-47F1-8441-4F34DACA2C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2004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6520" y="152280"/>
            <a:ext cx="5943240" cy="5638680"/>
            <a:chOff x="1676520" y="152280"/>
            <a:chExt cx="5943240" cy="5638680"/>
          </a:xfrm>
        </p:grpSpPr>
        <p:sp>
          <p:nvSpPr>
            <p:cNvPr id="95" name=""/>
            <p:cNvSpPr/>
            <p:nvPr/>
          </p:nvSpPr>
          <p:spPr>
            <a:xfrm>
              <a:off x="1676520" y="152280"/>
              <a:ext cx="5943240" cy="56386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6080" y="1326960"/>
              <a:ext cx="3922560" cy="328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15396" t="0" r="6411" b="0"/>
          <a:stretch/>
        </p:blipFill>
        <p:spPr>
          <a:xfrm>
            <a:off x="3200400" y="1828800"/>
            <a:ext cx="2971800" cy="2182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E6A-DB1A-479E-A727-5A86312A23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Patient “Lifel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c Remo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urse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ight on/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mit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roper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nspi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85A-FE1D-41FF-8791-E0AD9F2EEF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spirations for ou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2227320" cy="24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2586240" cy="19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905120" y="3930480"/>
            <a:ext cx="2536560" cy="170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3943440"/>
            <a:ext cx="312444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chscree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ble at bed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A78-9F07-4572-8B03-FE5730AD58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ution: </a:t>
            </a: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</a:t>
            </a: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171960" cy="453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273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676520"/>
            <a:ext cx="3886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 bedside rem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buttons/touch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o wall by retractable cord or 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, lightw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multip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atient through information and positive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s to screensaver when not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3D3-2F30-44A0-B08B-E782DFBAB2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2520" y="1066680"/>
            <a:ext cx="4647960" cy="4267440"/>
          </a:xfrm>
          <a:prstGeom prst="roundRect">
            <a:avLst>
              <a:gd name="adj" fmla="val 16667"/>
            </a:avLst>
          </a:prstGeom>
          <a:solidFill>
            <a:srgbClr val="a6d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in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rse Call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809880" cy="33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EBF-A36C-41C4-989C-1042D2AACF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MY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68280"/>
            <a:ext cx="5257800" cy="459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2397240"/>
            <a:ext cx="3429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ive patients control over his/her immediate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 better lighting op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mote relaxation with “soothing sound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eate engaging experience with interactive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B62-C5E7-4350-BC4B-231E96DF50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502240" cy="481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19920" y="3962520"/>
            <a:ext cx="28954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s RFID technology to identify doctors and nurses as soon as they enter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blishes connection and builds relationship with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s patien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51F-625C-44E6-B490-AC56F2F512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MY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7680" y="1143000"/>
            <a:ext cx="5121000" cy="4479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43600" y="3048120"/>
            <a:ext cx="2743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existing system to relay status of orders and approximate 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patients understand “What am I waiting fo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190760" y="175248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217-9533-46E7-B8CD-5A6332ED85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8:45:42Z</dcterms:created>
  <dc:creator>Caroline Castellino</dc:creator>
  <dc:description/>
  <dc:language>en-US</dc:language>
  <cp:lastModifiedBy>Office 2004 Test Drive User</cp:lastModifiedBy>
  <dcterms:modified xsi:type="dcterms:W3CDTF">2008-10-28T19:34:43Z</dcterms:modified>
  <cp:revision>30</cp:revision>
  <dc:subject/>
  <dc:title>Slide 1</dc:title>
</cp:coreProperties>
</file>